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528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29040" y="0"/>
            <a:ext cx="300528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8816760"/>
            <a:ext cx="3005280" cy="463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929040" y="8816760"/>
            <a:ext cx="3005280" cy="463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F7A5C5-8B5A-4051-881E-A9B73C1DD16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929040" y="8816760"/>
            <a:ext cx="3005280" cy="463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4FF5CC-371F-4D45-94DD-E09EA49834F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8816760"/>
            <a:ext cx="3005280" cy="463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0"/>
            <a:ext cx="300528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29040" y="0"/>
            <a:ext cx="300528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70000" y="7048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25560" y="4408200"/>
            <a:ext cx="5083200" cy="4173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tyle Gui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designed to facilitate the creation of presentations within Intersil graphic guidelines. These presentations may address an external audience, as in a product announcement or industry event, or an internal one, as in seminars or executive committee meetings.  In any case, it is important to adhere to a corporate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tyle Gui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 The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tyle Gui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rovides standards and guidelines to help project Intersil’s corporate identity.  Projecting visual continuity is a key to the success of the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tyle Gui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based on the capabilities of Microsoft PowerPoint, one of our corporate standard software packages. The following slides and script describe the graphic standards and guidelines for these present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tyle Gui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ill address four key are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verall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Layout and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pecific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or placement of text, logo, and graphic treatments (symbols, bar charts and table char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mmended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Guidelin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using photography and illu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mmended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l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sage and standard palet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670C-155A-4093-BE5E-AAC583B06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3F93-4F4C-44FA-8109-5C4579B6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9AA9-2D4B-4F20-88A3-D3E4C0C87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C1B1-144E-4BBC-B389-0410A10B0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53D2-090F-46EB-8074-443C5D75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EF65-44F2-4453-9B59-BC86E6EB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63FB-D1A1-42E8-A2CC-F1A62235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6D32-FC8D-49F8-AF2C-96935896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93F2-1EBF-49D5-A30A-346A38DD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736C-728E-42AD-A3EC-959D4181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307A-02BB-42F0-B9B1-CCA353DF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0ED8-E13C-48A9-813E-6ECCD511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C266803-746B-45D5-BAAF-D272EB083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7240" y="609480"/>
            <a:ext cx="777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7240" y="6477120"/>
            <a:ext cx="784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81080" y="22856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y OFDM for the High Rate 802.11b Extensi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FD89-D9B8-480B-BDE2-360ECF4794F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OFDM in the 2.4 GHz Ban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DM is a powerful and proven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DM independently selected by 802.11a and HiperLAN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DM provides excellent performance in multipath and AW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leaving and error coding result in extremely robust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carrier systems do not scale well for very high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alizer complexity fatally flawed HiperLAN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y repeat this mistak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11B7-2C64-4F95-9B94-00A0EBD2858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OFDM in the 2.4 GHz Ban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mer demand for bandwidth is insat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2 Mbps is better, but it is insufficient for many applic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GHz development is raising market expec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DM can scale data rates to &gt;54 Mb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ough bandwidth to remain compet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ough to serve multimedia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we want to go through standards process again in two yea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happens when consumers demand &gt;20 Mbp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 few years, consumers will demand 54 Mbps, they don’t care about the frequency of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D5E1-95B6-49A9-8AE5-DA2D716AC5B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OFDM in the 2.4 GHz Ban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grade 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DM is already used at 5 G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802.11a and HiperLAN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 of OFDM for 2.4 GHz band provides upgrade path to 5 G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al Band radios become possib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4 GHz infrastructure does not become stran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4 GHz band remains competitive in terms of data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radio can work regardless of infrastructur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for customers, good for suppli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590F-5AD3-43DE-A3DF-ED28670889E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ing Iss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089920" cy="466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f we DON’T pick OFD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body else will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echnology is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rates are hig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ance in multipath and AWFG is outsta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, wh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meRF, proprietary solution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 will not be a leader in 2.4 GHz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won’t care about 22 Mbps if 54 Mbps is available from other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concede the 2.4 GHz band to non-802.11 solu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B919-48CA-4635-9DB4-C5EFBCB483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ing Iss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089920" cy="441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long-term thinking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five years, consumers will be demanding higher data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long do we think 22 Mbps will be competiti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, do we want to do this again next ye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pick OFDM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4 GHz band remains v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 does not “open the door” to compet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al Band radios will extend the life of 2.4 GHz infrastru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D7D3-DFF2-43EE-8E4F-525E8728257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089920" cy="28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4000"/>
          </a:bodyPr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not get a high rate (&gt;20 Mbps) solution approved in the 2.4 GHz band without a rule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6948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DM is the right choice right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can be in place when FCC gives green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948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DM is the right choice for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data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 multipath and AWGN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grade path to 5 GHz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1490-8583-4D53-BC6C-BF0117EB6B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6T05:48:05Z</dcterms:created>
  <dc:creator>Jim Zyren</dc:creator>
  <dc:description/>
  <dc:language>en-US</dc:language>
  <cp:lastModifiedBy>Harris Semiconductor</cp:lastModifiedBy>
  <cp:lastPrinted>1998-02-10T13:28:06Z</cp:lastPrinted>
  <dcterms:modified xsi:type="dcterms:W3CDTF">2000-11-06T21:21:13Z</dcterms:modified>
  <cp:revision>5</cp:revision>
  <dc:subject/>
  <dc:title>Why OFDM for the High Rate 802.11b Extension?</dc:title>
</cp:coreProperties>
</file>